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DB1-184E-4AF5-B785-5D3764BD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8A6-EC7F-4673-A2DC-C2952ACC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5CD-A060-4706-B6AA-65B54FD9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3F3-EE06-4523-BD78-2E800BE5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C5A-D626-4BCB-8E4F-B35E655D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18D-58BC-42BF-806A-D00CBC7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B8B-0516-4227-B8C7-1221D840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8F1-EB6A-4477-9FE9-FECA309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84F-4921-460A-8BCE-789B3A04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B40-6A4B-4B0E-8FA0-9E00B7B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2BE-5798-42AA-91F4-45223D10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8DD-3784-4753-B0EC-70E2F6D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2CF4-A18D-4D61-BD55-176CB4FBD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near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Aller 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To be going to 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étudier (present/perfect/near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4560" y="2133720"/>
            <a:ext cx="4136760" cy="2562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je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a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tu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il, elle, on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0440" y="2133720"/>
            <a:ext cx="4295520" cy="2562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nous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all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vous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all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3399"/>
                </a:solidFill>
                <a:latin typeface="Comic Sans MS"/>
              </a:rPr>
              <a:t>ils, elles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cc0066"/>
                </a:solidFill>
                <a:latin typeface="Comic Sans MS"/>
              </a:rPr>
              <a:t>v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2600" y="22860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cc0066"/>
                </a:solidFill>
                <a:uFillTx/>
                <a:latin typeface="Comic Sans MS"/>
              </a:rPr>
              <a:t>Aller</a:t>
            </a:r>
            <a:r>
              <a:rPr b="0" lang="fr-FR" sz="5400" spc="-1" strike="noStrike" u="sng">
                <a:solidFill>
                  <a:srgbClr val="000000"/>
                </a:solidFill>
                <a:uFillTx/>
                <a:latin typeface="Comic Sans MS"/>
              </a:rPr>
              <a:t> + infiniti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5400" spc="-1" strike="noStrike">
                <a:solidFill>
                  <a:srgbClr val="cc0066"/>
                </a:solidFill>
                <a:latin typeface="Comic Sans MS"/>
              </a:rPr>
              <a:t>to be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0066"/>
                </a:solidFill>
                <a:latin typeface="Comic Sans MS"/>
              </a:rPr>
              <a:t>going t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27364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Ex: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Je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vais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étudier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le frança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l’année prochaine</a:t>
            </a:r>
            <a:r>
              <a:rPr b="0" lang="en-GB" sz="40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3024360" cy="172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o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dictionnaire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1125360"/>
            <a:ext cx="5759280" cy="36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Je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ais</a:t>
            </a: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a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a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allon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allez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4000" spc="-1" strike="noStrike" u="sng">
                <a:solidFill>
                  <a:srgbClr val="660066"/>
                </a:solidFill>
                <a:uFillTx/>
                <a:latin typeface="Comic Sans MS"/>
              </a:rPr>
              <a:t>vont</a:t>
            </a:r>
            <a:r>
              <a:rPr b="0" lang="fr-FR" sz="40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40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89000"/>
            <a:ext cx="4103640" cy="836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er +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013360"/>
            <a:ext cx="8400960" cy="1556280"/>
          </a:xfrm>
          <a:prstGeom prst="rect">
            <a:avLst/>
          </a:prstGeom>
          <a:solidFill>
            <a:srgbClr val="ffcc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’an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e prochaine, je va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tudier les maths et l’anglais parce que ce sont mes mat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ères p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fér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97360"/>
            <a:ext cx="3024000" cy="172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o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dictionnaire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484360" y="2852280"/>
            <a:ext cx="223200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47640" y="2565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04640"/>
            <a:ext cx="2663640" cy="244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J’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3860640"/>
            <a:ext cx="331308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Je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ais</a:t>
            </a: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a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a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llon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llez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vont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5920"/>
            <a:ext cx="288000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J’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i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Tu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s</a:t>
            </a:r>
            <a:r>
              <a:rPr b="0" lang="fr-FR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/elle/on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N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von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Vou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avez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Comic Sans MS"/>
              </a:rPr>
              <a:t>Ils/elles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660066"/>
                </a:solidFill>
                <a:uFillTx/>
                <a:latin typeface="Comic Sans MS"/>
              </a:rPr>
              <a:t>ont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étudi</a:t>
            </a:r>
            <a:r>
              <a:rPr b="0" lang="fr-FR" sz="2400" spc="-1" strike="noStrike">
                <a:solidFill>
                  <a:srgbClr val="cc0066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348000" y="4724280"/>
            <a:ext cx="2303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284640"/>
            <a:ext cx="1726920" cy="43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3573360"/>
            <a:ext cx="216036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869000"/>
            <a:ext cx="180000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1:33:08Z</dcterms:created>
  <dc:creator>Caroline Cassels</dc:creator>
  <dc:description/>
  <dc:language>en-US</dc:language>
  <cp:lastModifiedBy>Caroline Cassels</cp:lastModifiedBy>
  <dcterms:modified xsi:type="dcterms:W3CDTF">2007-01-21T21:33:27Z</dcterms:modified>
  <cp:revision>1</cp:revision>
  <dc:subject/>
  <dc:title>The near future</dc:title>
</cp:coreProperties>
</file>